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03C3-9FA9-4DC0-A1B8-195BF0403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E64F-3E68-479C-92FE-6562EC2A541A}" type="slidenum">
              <a:rPr b="0" lang="en-US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7231-56A0-4096-B434-BEEF1CFA7FCC}" type="slidenum">
              <a:rPr b="0" lang="en-US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6636-320D-4BC9-AD47-1E04E1A5EE96}" type="slidenum">
              <a:rPr b="0" lang="en-US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CCF9-596A-4BB3-BFE7-42C06C545264}" type="slidenum">
              <a:rPr b="0" lang="en-US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36CD-C4FF-4BD1-8EED-E0F08BEFA1FB}" type="slidenum">
              <a:rPr b="0" lang="en-US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3C6F-205C-462B-A615-3A758C364770}" type="slidenum">
              <a:rPr b="0" lang="en-US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BA1B-5CEF-47C7-AC0E-67B5CDE5039C}" type="slidenum">
              <a:rPr b="0" lang="en-US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78A8-8264-45DD-AB3E-429FCE899BFA}" type="slidenum">
              <a:rPr b="0" lang="en-US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0F56-2179-45C3-AB18-DD928DE0253A}" type="slidenum">
              <a:rPr b="0" lang="en-US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8EE0-51EB-49F1-87E7-E33882EB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394C-4D71-4329-8B38-DE7AA5D5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1FBB-9237-4C17-95ED-0FA8CB2A0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6929-8010-4B89-A47F-75D0109B2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18A6-7A31-42C2-BBF5-F3DEB300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B2E0-14E7-4EF6-9DF6-DB66D82B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C54C-26CB-4D3A-A740-753029BD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BD75-A9F6-4440-AB9A-FCADDFAF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E394-0657-47FD-840B-138F2B09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916D-9C52-4350-AB9A-74BFB553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AB3E-7C12-4133-950B-EF6ECA0E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B3AA-EE6A-443B-A3FA-D88C21F1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7E61-1064-4ED1-89F1-BE654C65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8BCD-7532-45A2-8D5F-70F822B6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5F2C-6C63-48AC-8D2A-1BEF295B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C5B8-4CC8-4AA4-B6A0-3751C44E6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C1ED-98BF-4A1E-9D06-30A655FE0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66B7-F43B-445F-9DDF-AB40ADAB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2F5B-9B49-4320-8C90-A3D7BEE7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DA31-7498-4BD4-BBB1-2DC7A20C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FBC1-FCE9-4F9D-8689-C50C1312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7EDB-236E-4131-B2DE-3951B9A0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03D6-12B2-4049-901C-A4DD9CEA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FE34-6B4F-4D0B-B00C-5A6FFE6B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FE4A-A352-456D-8D42-4941CA6E53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D982-315F-4A3D-A8E7-1A7D2B47190D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ome.columbus.rr.com/allen/image_018.gif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http://www.swre.com/ctfilter.GIF" TargetMode="External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hapter 25</a:t>
            </a:r>
            <a:br>
              <a:rPr sz="4400"/>
            </a:b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Indoor Air Pollution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acteria and molds and mildews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sbesto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rmaldehyd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obacc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ad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2" name="Picture 5" descr="Radon1"/>
          <p:cNvPicPr/>
          <p:nvPr/>
        </p:nvPicPr>
        <p:blipFill>
          <a:blip r:embed="rId1"/>
          <a:stretch/>
        </p:blipFill>
        <p:spPr>
          <a:xfrm>
            <a:off x="2133720" y="1523880"/>
            <a:ext cx="5486400" cy="464832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3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533520" y="2362320"/>
            <a:ext cx="1523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Longer exposure time leads to greater cancer risk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6" name="Picture 5" descr="radon risk bar chart"/>
          <p:cNvPicPr/>
          <p:nvPr/>
        </p:nvPicPr>
        <p:blipFill>
          <a:blip r:embed="rId1"/>
          <a:stretch/>
        </p:blipFill>
        <p:spPr>
          <a:xfrm>
            <a:off x="228600" y="106668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Picture 5" descr="image_0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447920"/>
            <a:ext cx="6248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Why indoor pollutants so concentrated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ntaminated building material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ollutants get trapp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ir and heating units not maintain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nd cannot filter everyth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Picture 5" descr="ctfilter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14800" y="1371600"/>
            <a:ext cx="3352680" cy="2819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filters"/>
          <p:cNvPicPr/>
          <p:nvPr/>
        </p:nvPicPr>
        <p:blipFill>
          <a:blip r:embed="rId6"/>
          <a:stretch/>
        </p:blipFill>
        <p:spPr>
          <a:xfrm>
            <a:off x="4191120" y="4343400"/>
            <a:ext cx="3276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nter through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racks in walls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rough windows and door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himney effec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ind and pressure differentials in and outside build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Who’s affected most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you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ol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mmunosuppresse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hronic respiratory disease sufferer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ick building syndrom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Picture 5" descr="warum-krank"/>
          <p:cNvPicPr/>
          <p:nvPr/>
        </p:nvPicPr>
        <p:blipFill>
          <a:blip r:embed="rId1"/>
          <a:stretch/>
        </p:blipFill>
        <p:spPr>
          <a:xfrm>
            <a:off x="3276720" y="1981080"/>
            <a:ext cx="4343400" cy="39625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6"/>
          <p:cNvSpPr/>
          <p:nvPr/>
        </p:nvSpPr>
        <p:spPr>
          <a:xfrm>
            <a:off x="380880" y="2514600"/>
            <a:ext cx="2743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Caused by unhealthy indoor env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ontrolling the problem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Ventilat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emove sourc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ix heaters and other faulty devic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lean air filter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ducate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ducate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ducate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Picture 5" descr="no-smoking"/>
          <p:cNvPicPr/>
          <p:nvPr/>
        </p:nvPicPr>
        <p:blipFill>
          <a:blip r:embed="rId8"/>
          <a:stretch/>
        </p:blipFill>
        <p:spPr>
          <a:xfrm>
            <a:off x="4267080" y="1981080"/>
            <a:ext cx="3276720" cy="3810240"/>
          </a:xfrm>
          <a:prstGeom prst="rect">
            <a:avLst/>
          </a:prstGeom>
          <a:ln w="0">
            <a:noFill/>
          </a:ln>
        </p:spPr>
      </p:pic>
      <p:sp>
        <p:nvSpPr>
          <p:cNvPr id="225" name="Line 7"/>
          <p:cNvSpPr/>
          <p:nvPr/>
        </p:nvSpPr>
        <p:spPr>
          <a:xfrm>
            <a:off x="3352680" y="2362320"/>
            <a:ext cx="1143000" cy="533160"/>
          </a:xfrm>
          <a:prstGeom prst="line">
            <a:avLst/>
          </a:prstGeom>
          <a:ln w="9360">
            <a:solidFill>
              <a:srgbClr val="ecf53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22:47:30Z</dcterms:created>
  <dc:creator>tosborne</dc:creator>
  <dc:description/>
  <dc:language>en-US</dc:language>
  <cp:lastModifiedBy>Teri Osborne</cp:lastModifiedBy>
  <dcterms:modified xsi:type="dcterms:W3CDTF">2011-03-21T00:44:26Z</dcterms:modified>
  <cp:revision>10</cp:revision>
  <dc:subject/>
  <dc:title>Indoor Air Pollution</dc:title>
</cp:coreProperties>
</file>